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E0D-5346-4619-BBB7-F3085C55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8A6-E995-470E-96FD-D3F401B9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C8FF-DF82-4725-9EA7-E78D7B32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D963-F7D0-4407-91B9-985EBA7A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319-D13B-499C-8888-B7CCF0B4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21FC-12DE-4BA6-A9B7-21E4966F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758-4AC3-4866-8DFE-5D427000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CEDA-3B37-4B3C-97C8-6F04BD41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861F-2693-4256-9A34-A770FE5D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A69F-B8ED-4DB3-9C53-DEF6C504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8CF9-91E9-4343-9205-6FB6411D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CF88-4B15-40BD-A985-FE97BF4D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78A5-1AC4-4C4A-ADF2-E23AD7C80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048120"/>
            <a:ext cx="8686800" cy="3706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048120"/>
            <a:ext cx="8610480" cy="3706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4290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3352680"/>
            <a:ext cx="868680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838080"/>
            <a:ext cx="4267440" cy="5792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971800"/>
            <a:ext cx="8610480" cy="3706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aracterístiq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819520"/>
            <a:ext cx="8610480" cy="4254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aracterístiq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2057400"/>
            <a:ext cx="32004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666880"/>
            <a:ext cx="8610480" cy="412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895480"/>
            <a:ext cx="8610480" cy="3706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352680"/>
            <a:ext cx="8610480" cy="3277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048120"/>
            <a:ext cx="8686800" cy="3694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09:59:50Z</dcterms:created>
  <dc:creator>TIC</dc:creator>
  <dc:description/>
  <dc:language>en-US</dc:language>
  <cp:lastModifiedBy>TIC</cp:lastModifiedBy>
  <dcterms:modified xsi:type="dcterms:W3CDTF">2009-06-26T11:37:54Z</dcterms:modified>
  <cp:revision>63</cp:revision>
  <dc:subject/>
  <dc:title>Presentación de PowerPoint</dc:title>
</cp:coreProperties>
</file>